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A219-FADC-4705-8E2F-7723EFC39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d signal is ideal, so in order to match the timing of the two signals, the SE signal is delayed so the data from the BL/BLB is ready to be accepted by the Sense 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1486-C66A-407C-B558-CB70C2280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171D-F3AC-4EBB-910B-BA93EB53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5F4-1DC3-4011-BF86-12154126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FBA0-D489-4E2C-96FE-F54555AF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1FA-88E5-4CC1-84A6-74A1D90B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5402-3402-4F50-8BFA-F3EC20D1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B602-D4EF-446B-9981-D63C6E36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02FC-BE9B-40DE-92FD-5A448DEB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8646-0E6D-4347-9AFF-89E4C870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2B5B-B030-4B19-84B0-FB4F8C86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F21F-5379-41C5-AF43-8D321490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3857-988E-405A-B5F0-53759717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EC36-9E0C-4663-A291-7DC6609C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557B-E345-4A1F-A5B7-F12AAB84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E5E7-677A-4666-8963-8A40143F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FC06-EFA0-45EB-B67B-13BC436A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0125-9E4D-47EE-B6D1-7F8934CC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0892-9D70-4414-A5BB-BD47D3A3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2012B-A353-4E11-A7F5-5FD12585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F1F3A-4E65-4DE6-8C73-A19C66E7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ADA60-27F3-4DBA-A59A-7AD99B12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FFB87-A54A-46E8-8906-E0574372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26AEA-9E16-4578-AF95-50376457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9A1D-DE79-431E-8D40-1AA9E503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843C6-AD44-4E17-B8EA-6F347ABE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A0338-7E5B-4AA7-AE05-BEBC75FF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0B8F7-36EE-4259-B664-C517332E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94DA0-B690-4CDE-868B-9BA2A8C9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62062-D699-40B5-A8FB-0B2E840C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E5E12-4C8D-41B0-A82F-7F313078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A1B3E-DCA2-4D1E-9869-E4A4F3A0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F5429-D018-4641-B63E-400B2FBD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4505B-52DD-44CE-9778-1FA3CAB8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AB53A-C651-49EF-9094-B602855A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5D73-3B36-4B09-BD20-8549D43F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EE45E-E617-483F-8BED-3D0B84D1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317F8-49AA-452C-ACE5-F7C24C77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9CC04-254D-4D6E-BE22-A9B1F8D4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7E0A7-E5AF-4FE5-A161-510415F5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E2C04-3F37-4D7E-BD41-E73D2E61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6EC07-33B9-41D3-B368-28EE9129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10F76-545A-4691-BAD5-1D1EFEBD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2B7C3-FDE2-475E-B4E6-5400D7C2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6835C-C10E-41AE-B8F6-F85212FF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7B7BD-3987-4CAE-A923-6401A84C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5E0-BE49-486B-85CE-1B3453B9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15C6B-2AF0-4210-B44F-C04C00A7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67549D-E8B5-4330-9A27-4A18AADD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B6037A-58ED-4A57-8D76-7AA7556D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87F6D1-74ED-44AC-AB7F-4D09384C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BBC850-8A4A-4231-A878-B257BDC0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ACB61B-0BD4-4D6A-8095-FE5EDE75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DE2F0B-7748-44E4-9248-FF48D5D7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6BC24B-529F-4043-8D50-6AA3E6F9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26944-B06E-4FF6-9611-11434547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2CC08F-186A-472F-8D40-88D710CD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AC6-CD0D-4B68-99F9-8749FB02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1AB20-6541-4CF8-8CE6-4131E7A2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994577-E7D8-43FE-A045-7E6B1B31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4D6702-FABD-464F-BB02-A36B9413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4AD89D-EEED-45C0-8BB5-7A3605FD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1AD3A-ECB7-4620-90C8-A3953D35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11EC5-9847-49BC-AF28-25044527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0EE063-4EFD-42E1-8023-EDDB453D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0C7B6D-963E-49E4-A0D3-4604BB3F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644070-E7A2-4AF0-AFEC-07AB92DE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848C9-45FA-42D1-966F-3C7B3F88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80F-7C4A-48F4-8600-DC447F81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89D590-34FF-4622-A313-735FA440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ABE61E-614C-4B17-B0E5-722A5F8F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8CBF81-EB60-44FE-8A3F-84774C91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1E243F-4E66-4102-82FC-858E1AE3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9A2107-2035-47D0-9253-98D9BC5F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F5D6FA-3339-4A43-A74E-50FF2B2E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52328F-0978-4395-9AD6-FB05ADF4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17A936-F8E2-49D5-B877-C4F8AFC6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9D148B-9073-46D9-BA7B-75ABB878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81CE8F-97E2-4C3F-9EA2-F0A03C05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E727-3163-4F83-88F2-36867AE6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8ED774-89C8-40B3-A347-10770C61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157592-10CB-4419-9381-132F56DA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7D64BD-8A38-44CE-8E40-61279C97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0D5DEE-9BCE-4338-A74F-E89AC496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F20098-0FCA-41A0-8350-3F8C961A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CCAD-0A60-42E9-96F6-D8613379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2B0E-FB23-45D3-B903-B2E64FA698A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4E71-D33A-4CF4-B9D4-7FC8D2CF9EF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6B91-EDEB-4514-BE69-4745BCAF27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95CD-9139-4AE0-98ED-4B595FB4CE9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386C-23B5-4E56-94D4-CD1E034DB9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E6CF-95EC-4E6E-822F-D094E1B61E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A7B4-1D98-4E13-BCE1-A8BEFB0073C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200040"/>
            <a:ext cx="6172200" cy="18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DESIGNING A LOW POWER SRAM FOR PICO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ECE4332 : Team 4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Sharif Morad, Maxwell Martin, Jaleesa Boykin, Marc Hal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December 2</a:t>
            </a:r>
            <a:r>
              <a:rPr b="1" lang="en-US" sz="1800" spc="-1" strike="noStrike" baseline="30000">
                <a:solidFill>
                  <a:srgbClr val="575f6d"/>
                </a:solidFill>
                <a:latin typeface="Century Schoolbook"/>
              </a:rPr>
              <a:t>nd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200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2743200" y="1371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LOVE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LSI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” ~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Benton Calhoun, August 25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 200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URTHER OPTIMIZATI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ower VD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5V to 2.5V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duce Clock peri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duce ratio width of pre-charge transistors to data write transist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ock signal buffer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sed FO4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AYOU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373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d past desig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ed methods to save ar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irror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inimum sized gap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rcRect l="12292" t="12681" r="5951" b="8186"/>
          <a:stretch/>
        </p:blipFill>
        <p:spPr>
          <a:xfrm>
            <a:off x="4060800" y="1143000"/>
            <a:ext cx="4492800" cy="35053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"/>
          <p:cNvPicPr/>
          <p:nvPr/>
        </p:nvPicPr>
        <p:blipFill>
          <a:blip r:embed="rId2"/>
          <a:srcRect l="0" t="0" r="11113" b="10527"/>
          <a:stretch/>
        </p:blipFill>
        <p:spPr>
          <a:xfrm>
            <a:off x="533520" y="4267080"/>
            <a:ext cx="3225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IMUL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mulated model of entire arra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tracted bit line and word line R/C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ased on layout lengths/width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sted and verified functionality 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ocess corners (TT, FF, SS, SF, F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ifferent voltages (2.5V, 5V, 5.5V, 4.5V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emperature (50C, 27C, 0C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2590920" y="838080"/>
            <a:ext cx="3581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Write 1, Read 1, Write 0 at TT, 2.5V (nominal), 27°C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1"/>
          <a:stretch/>
        </p:blipFill>
        <p:spPr>
          <a:xfrm>
            <a:off x="533520" y="1515960"/>
            <a:ext cx="7467480" cy="5342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SUL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TRIC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verage Power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~68.916mW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lay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72.18ns (worst case delay for read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tal Are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pproximately .524mm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wer Metric: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79633.89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m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ns*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ALLEN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adeoff decis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hich knobs to turn and amount of sensitiv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ring/Layou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ook a long time, changing design was difficul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KILL may have help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gnitude of SRA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roubleshooting Cade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icking to schedule/time constrai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rver crash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09680" y="2437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75f6d"/>
                </a:solidFill>
                <a:latin typeface="Century Schoolbook"/>
              </a:rPr>
              <a:t>QUESTIONS?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SIGN GOA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in metric for low power 1Mb SRA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(Total Power)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* Delay * Area  = (mW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*ns*mm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quirement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32 bit word size for read or wri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puts: Address bits, data in, read, write, CL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utputs: data ou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unctionality at all process corners with various temperatur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RRAY ARCHITECTUR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5308560" cy="40006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380880" y="1600200"/>
            <a:ext cx="3276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6 block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8 words/bloc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256 x 256 bit cells per bloc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ock Pre-charg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erarchical W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rted BLs/BLB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nse Am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IT CEL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 xtor bit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lculations and vigorous testing to minimize wid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426708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CODER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5238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ock Selec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erarchical W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Power and Dela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coder Enable Sele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Pow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448080" cy="2550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4038480" y="4648320"/>
            <a:ext cx="2667240" cy="1947600"/>
          </a:xfrm>
          <a:prstGeom prst="rect">
            <a:avLst/>
          </a:prstGeom>
          <a:ln w="0">
            <a:noFill/>
          </a:ln>
        </p:spPr>
      </p:pic>
      <p:cxnSp>
        <p:nvCxnSpPr>
          <p:cNvPr id="373" name="Elbow Connector 8"/>
          <p:cNvCxnSpPr/>
          <p:nvPr/>
        </p:nvCxnSpPr>
        <p:spPr>
          <a:xfrm flipV="1" rot="16200000">
            <a:off x="5218920" y="4533120"/>
            <a:ext cx="1524600" cy="686520"/>
          </a:xfrm>
          <a:prstGeom prst="bentConnector3">
            <a:avLst>
              <a:gd name="adj1" fmla="val 69792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4" name="Elbow Connector 11"/>
          <p:cNvCxnSpPr/>
          <p:nvPr/>
        </p:nvCxnSpPr>
        <p:spPr>
          <a:xfrm flipH="1" flipV="1" rot="5400000">
            <a:off x="5142240" y="3999960"/>
            <a:ext cx="991440" cy="3960"/>
          </a:xfrm>
          <a:prstGeom prst="bentConnector3">
            <a:avLst>
              <a:gd name="adj1" fmla="val 49981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5" name="Elbow Connector 37"/>
          <p:cNvCxnSpPr/>
          <p:nvPr/>
        </p:nvCxnSpPr>
        <p:spPr>
          <a:xfrm flipH="1" flipV="1" rot="5400000">
            <a:off x="6095520" y="5410440"/>
            <a:ext cx="456480" cy="3960"/>
          </a:xfrm>
          <a:prstGeom prst="bentConnector3">
            <a:avLst>
              <a:gd name="adj1" fmla="val 4996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76" name="Straight Arrow Connector 39"/>
          <p:cNvCxnSpPr/>
          <p:nvPr/>
        </p:nvCxnSpPr>
        <p:spPr>
          <a:xfrm flipV="1">
            <a:off x="6321960" y="4039560"/>
            <a:ext cx="3960" cy="1143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77" name="Picture 4" descr=""/>
          <p:cNvPicPr/>
          <p:nvPr/>
        </p:nvPicPr>
        <p:blipFill>
          <a:blip r:embed="rId3"/>
          <a:stretch/>
        </p:blipFill>
        <p:spPr>
          <a:xfrm>
            <a:off x="990720" y="3657600"/>
            <a:ext cx="3516120" cy="2209680"/>
          </a:xfrm>
          <a:prstGeom prst="rect">
            <a:avLst/>
          </a:prstGeom>
          <a:ln w="0">
            <a:noFill/>
          </a:ln>
        </p:spPr>
      </p:pic>
      <p:cxnSp>
        <p:nvCxnSpPr>
          <p:cNvPr id="378" name="Elbow Connector 46"/>
          <p:cNvCxnSpPr/>
          <p:nvPr/>
        </p:nvCxnSpPr>
        <p:spPr>
          <a:xfrm flipH="1" flipV="1" rot="5400000">
            <a:off x="4113720" y="3199680"/>
            <a:ext cx="1981800" cy="762840"/>
          </a:xfrm>
          <a:prstGeom prst="bentConnector3">
            <a:avLst>
              <a:gd name="adj1" fmla="val 92914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9" name="Straight Connector 52"/>
          <p:cNvSpPr/>
          <p:nvPr/>
        </p:nvSpPr>
        <p:spPr>
          <a:xfrm flipH="1">
            <a:off x="3809880" y="4572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0" name="Straight Arrow Connector 61"/>
          <p:cNvCxnSpPr/>
          <p:nvPr/>
        </p:nvCxnSpPr>
        <p:spPr>
          <a:xfrm flipV="1">
            <a:off x="6323040" y="3504960"/>
            <a:ext cx="2160" cy="1297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ATA ACCES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rting BL/BL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are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Xing only column blocks saves 32256 xt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5562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NSE AMPLIFI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600200"/>
            <a:ext cx="3581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2 Sense Amps/block colum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duce Pow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rted BL/BL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are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ves 35712 xt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layed SE signal    to wait for BL/BLB dat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3524400" y="2057400"/>
            <a:ext cx="5162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E-CHARGE BLOC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447560"/>
            <a:ext cx="3809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/BLB shor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nly require 4 pre-charge blocks as opposed to 16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ves Ar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6144 xto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erarchical pre-char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lock Select Sign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Pow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duces CLK signal loa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4343400" y="685800"/>
            <a:ext cx="3962520" cy="2182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"/>
          <p:cNvPicPr/>
          <p:nvPr/>
        </p:nvPicPr>
        <p:blipFill>
          <a:blip r:embed="rId2"/>
          <a:stretch/>
        </p:blipFill>
        <p:spPr>
          <a:xfrm>
            <a:off x="4572000" y="3200400"/>
            <a:ext cx="38131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ATA WRIT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32767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rting BL/BL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Are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ata xtors for only block colum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6144 xto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lumn Block Select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ves pow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3726000" cy="2057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4724280" y="3886200"/>
            <a:ext cx="32115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0:06:42Z</dcterms:created>
  <dc:creator>lcuser</dc:creator>
  <dc:description/>
  <dc:language>en-US</dc:language>
  <cp:lastModifiedBy>lcuser</cp:lastModifiedBy>
  <dcterms:modified xsi:type="dcterms:W3CDTF">2009-12-01T03:31:30Z</dcterms:modified>
  <cp:revision>16</cp:revision>
  <dc:subject/>
  <dc:title>Designing a Low Power SRAM for PICo </dc:title>
</cp:coreProperties>
</file>